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4C7E-576C-4248-92AB-AB69BF7E8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487A-B913-4D31-8332-A99669DEF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5568-7010-4BCC-A330-90722E73F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A365-CA66-4E38-AFDD-658FC3FE7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1031-C468-4FEC-AA5C-6659D4604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E1A9-E051-4FE2-B9C7-996BC78D0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A48F-1245-443D-9F20-731B11933D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0B68-1EBC-47AA-BE0C-4BFDD926E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91BC-2BE2-4855-B8CE-255ED1BB28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3F5C-F69C-4CA4-968E-1FC2DD109D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BF7C-4364-48A1-BB69-8A535F22D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E0A4-5CFF-4C31-B9A5-D34A99AC3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F783-9A47-4A5D-9311-CCD0511C87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6853-9A6D-468E-8CFD-A96C80B98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2B54-6D44-4032-BE6C-94D08B79E1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D1DA-1728-41AC-B55E-D06C4FE98A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FE75-78E3-4790-8604-DA7E3A718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6E0F-B76A-4CF5-9269-10AB34CF4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0E73-C917-4237-BAF8-572156112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8910-76FE-4151-9CF5-3B90180C1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261C-47E0-4648-933C-34B4FFF30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40AD-6A59-40E8-8DF4-646702BE1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8DBD-F1B3-4A86-9DD7-495C732C0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A1F2-EF26-48EF-B421-9E98CD5CD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034E-B045-4F01-BE35-5A47D2DF426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1722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DATA CONCEPT - 28, avenue du Maréchal Foch 92260 FONTENAY AUX ROSES - F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Tél. : (33) 1 46 61 29 29 - Fax : (33) 1 46 61 29 3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pascal.billot@dataconcept.f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848720" cy="0"/>
          </a:xfrm>
          <a:prstGeom prst="line">
            <a:avLst/>
          </a:prstGeom>
          <a:ln cap="sq"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C6E0-6F6C-4C0E-9FF7-58B74A26CEE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1722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DATA CONCEPT - 28, avenue du Maréchal Foch 92260 FONTENAY AUX ROSES - F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Tél. : (33) 1 46 61 29 29 - Fax : (33) 1 46 61 29 3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pascal.billot@dataconcept.f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172200"/>
            <a:ext cx="7848720" cy="0"/>
          </a:xfrm>
          <a:prstGeom prst="line">
            <a:avLst/>
          </a:prstGeom>
          <a:ln cap="sq"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r" pos="759312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99"/>
                </a:solidFill>
                <a:latin typeface="Berlin Sans FB"/>
              </a:rPr>
              <a:t>DATA CONCEPT S.A.</a:t>
            </a:r>
            <a:br>
              <a:rPr sz="6000"/>
            </a:br>
            <a:r>
              <a:rPr b="0" lang="fr-FR" sz="2400" spc="-1" strike="noStrike">
                <a:solidFill>
                  <a:srgbClr val="ffff99"/>
                </a:solidFill>
                <a:latin typeface="Berlin Sans FB"/>
              </a:rPr>
              <a:t>LA PASSION DE LA QUALITE</a:t>
            </a:r>
            <a:br>
              <a:rPr sz="2400"/>
            </a:br>
            <a:r>
              <a:rPr b="0" lang="fr-FR" sz="2400" spc="-1" strike="noStrike">
                <a:solidFill>
                  <a:srgbClr val="ffff99"/>
                </a:solidFill>
                <a:latin typeface="Berlin Sans FB"/>
              </a:rPr>
              <a:t>www.dataconcept.fr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789000"/>
            <a:ext cx="815328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Audit et conseil en organ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Développement de logiciels spécif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6097-7AC2-44E4-9728-9C139D1DE9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47960" y="99036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99"/>
                </a:solidFill>
                <a:latin typeface="Berlin Sans FB"/>
              </a:rPr>
              <a:t>REFERENCES BOIS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Notre société est spécialisée dans l’informatisation des sociétés en négoce de bois depuis plus d’une dizaine d’années. Nos principales implantations dans le monde :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REFERENC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51920" y="99072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99"/>
                </a:solidFill>
                <a:latin typeface="Berlin Sans FB"/>
              </a:rPr>
              <a:t>QUELQUES REFERENCES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gencement : PARTEN’R DISTRIBUTION 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rtonnerie industrielle : GROUPE O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ntre d’étude atomique : C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pagnies maritimes : SOFLUM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nfection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OP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eur aéronautique : DASSAULT AV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ndustrie : SOY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sation de salon : SALON DU JOU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Verrerie industrielle :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O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EC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cap="sq" w="25560">
            <a:solidFill>
              <a:srgbClr val="ffff99"/>
            </a:solidFill>
            <a:miter/>
            <a:headEnd len="sm" type="diamond" w="lg"/>
            <a:tailEnd len="sm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200400"/>
            <a:ext cx="2743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TIB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IB CON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IB GAB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.B.G. GAB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FO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ROUPE ROUG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200400"/>
            <a:ext cx="2743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.F.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TERWOOD 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H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IVOBO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ROPICA-BO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T INTERNAT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BACA-0A0F-4240-B45A-607850FD48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MARC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057400"/>
            <a:ext cx="8305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44720"/>
                <a:tab algn="l" pos="400536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 %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ER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ogiciels et pres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44720"/>
                <a:tab algn="l" pos="400536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44720"/>
                <a:tab algn="l" pos="400536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0 %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ogiciels, prestations e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6AEF-A655-4C29-B531-19D2CCD8522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PRESENTATION DE LA SOCIE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 été créée en  1987 par Pascal BILLOT, à partir de convictions et de valeurs que nous partageons toujours aujourd’hui à savoir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a passion de la qua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e goût d’entreprendr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a double compéte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Des compétences fonctionnelles bâties sur un socle de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compétences techniques ; se caractérisant par une connaissance approfondie de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l’activité, des besoins et des contraintes de nos client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a complicité intern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Elle fait de 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une société jeune et dynamique où  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nous partageons au delà du quotidien la même motivation du « projet d’entreprise »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La volonté d’anticipatio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Elle se traduit en termes de veille technologique permanente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mais aussi d’intuition qui nous ont permis d’être prêts à répondre aux dernières mutations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informatiques et ce depuis plus de 10 a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56FD-FB16-4A07-854B-E27B8EC575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se caractérise par un grand nombre d’activité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sommes aptes à mener votr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jet informatique de A jusqu’à Z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d’offrir 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treprises des prestations de qualité dans les domaines suivant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99"/>
                </a:solidFill>
                <a:latin typeface="Berlin Sans FB"/>
              </a:rPr>
              <a:t>AUDITS ET CONSEILS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hoisir un système informatique n’est pas un choix anodin puisqu’il va conditionner la bonne marche de l’entreprise et permettre, s’il est bien conçu, de réaliser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’énormes gains de productivité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proposons de mettre à votre disposition notre expérience pour mieux appréhender votre système d’information, tant au niveau matériel que logiciel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Analyse du système existant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Études des besoins de l’entreprise et des utilisateurs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rise en compte des contraintes (organisation de l’espace, budget, utilisateurs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2407-961B-473D-8FEC-8C077361E1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DEVELOPPEMENT</a:t>
            </a:r>
            <a:br>
              <a:rPr sz="1600"/>
            </a:br>
            <a:br>
              <a:rPr sz="500"/>
            </a:b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 adopté depuis plus de 10 ans un certain nombre de principes qui déterminent des conditions de travail optimales pour un résultat répondant aux besoins de nos clients.</a:t>
            </a:r>
            <a:br>
              <a:rPr sz="1600"/>
            </a:br>
            <a:br>
              <a:rPr sz="5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Établissement de cahiers des charges (fonctionnalité, structure des informations).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ropositions de solutions sur le plan logiciel et sur le plan matériel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Développement d’application(s) spécifique(s).</a:t>
            </a:r>
            <a:br>
              <a:rPr sz="1600"/>
            </a:br>
            <a:br>
              <a:rPr sz="5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insi, à chaque application est affecté un chef de projet qui est :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Responsable des relations avec le client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Responsable du bon avancement du projet.</a:t>
            </a:r>
            <a:br>
              <a:rPr sz="1600"/>
            </a:br>
            <a:br>
              <a:rPr sz="5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ci inclut 5 phases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Analys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rogrammation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Tests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Formation et assistance au démarrag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Mainten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1484-0654-4DF4-BB45-34CE979C03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VENTES DE SOLUTIONS CLES EN MAINS</a:t>
            </a:r>
            <a:br>
              <a:rPr sz="2400"/>
            </a:br>
            <a:br>
              <a:rPr sz="9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vous proposons à la vente l’ensemble des matériels mini et micro-informatique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C de marques avec garantie de 1 à 5 ans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ériphériques divers (imprimantes, scanners, écran etc...)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Composants réseaux (cartes réseaux, hub, switch, modems, routeurs, etc...)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Tous logiciels et systèmes d’exploitation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assurons l’installation, la configuration, et le paramétrage de votre matérie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4522-E93C-4190-9768-6CA4332856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25"/>
              </a:spcBef>
              <a:buClr>
                <a:srgbClr val="ffff99"/>
              </a:buClr>
              <a:buSzPct val="75000"/>
              <a:buFont typeface="Berlin Sans FB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ASSISTANCE ET MAINTENANCE</a:t>
            </a:r>
            <a:br>
              <a:rPr sz="500"/>
            </a:br>
            <a:r>
              <a:rPr b="1" lang="fr-FR" sz="500" spc="-1" strike="noStrike">
                <a:solidFill>
                  <a:srgbClr val="ffff99"/>
                </a:solidFill>
                <a:latin typeface="Berlin Sans FB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met à votre disposition une équipe de techniciens qui intervient pour tous dépannages, configurations de PC et d’imprimantes, installations de systèmes d’exploitation, réseaux, logiciels de sécurité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pouvons :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Vous assister par téléphone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Intervenir directement sur votre ordinateur par  la télé-maintenance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Intervenir rapidement sur site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our que vous ne perdiez plus un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emps trop précieux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vous propose un service d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aintena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d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gestion de votre parc informatiqu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1FFD-A4F0-4628-A5FB-F011811769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FORMATION PROFESSIONNELLE</a:t>
            </a:r>
            <a:br>
              <a:rPr sz="2000"/>
            </a:br>
            <a:br>
              <a:rPr sz="12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’informatique évolue vit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ace à l’explosion des logiciels, </a:t>
            </a: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met à votre disposition un potentiel de formateurs intra et extra-entreprise,  pouvant répondre le plus rapidement possible à vos besoins 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 qui vous permettra d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prendre rapidemen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les nouvelles fonctionnalités, d’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ller à l’essentiel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de ne pas se perdre sous les manuels d’utilisation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s méthodes pédagogiques utilisées s'appuient sur des exercices concrets et progressifs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s formations s'accompagnent, pour chaque stagiaire, de supports de cours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ur chaque formation, qu'elle soit spécifique ou bien standard, un responsable de formation est attaché à suivre l'élaboration du projet, sa réalisation et surtout, le suivi dans l'entreprise de la mise en pratique des acquis de chaque stagiaire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1939-09F8-4E4D-9C62-41A08ACD99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 acquis une expérience approfondie dans la création de logiciels et de progiciel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avons en effet développé de nombreuses applications dont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NEWGEST</a:t>
            </a:r>
            <a:r>
              <a:rPr b="1" lang="fr-F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 Logiciel intégré permettant la gestion :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des Achats, des Ventes, de la Facturation, des Stocks, des Statistiques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MICROBOI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Logiciel intégré de gestion forestière pour :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Aménagement, Abattage, Grumes, Débités, Scierie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GESTBOI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Logiciel intégré pour le négoce international permettant la gestion des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trats d’achats, Contrats de ventes, Facturation, Statistiques, Règ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LOGICIELS DATA CONCEP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BE9D-316E-4366-8F77-2826078C02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obilité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la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sponibilité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sont deux de nos atouts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sommes déjà implantés : 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En </a:t>
            </a: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AFRIQU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meroun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ntrafriqu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go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ôte d’Ivoir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abon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ar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En </a:t>
            </a: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EUROP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llemagn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ranc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uis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En </a:t>
            </a: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ASI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terlocuteurs privilégiés de nos clients pour leur système d’information, tant au niveau matériel que logiciel, nous nous adaptons aux évolutions technologiques afin de mieux les satisfaire et les aider à améliorer leur efficience économiqu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982880"/>
            <a:ext cx="3809880" cy="3771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IMPLANTATIONS CLIENTE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A064-8AB3-4663-A125-4C29DE24F4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5:12:17Z</dcterms:created>
  <dc:creator>Marie-Lise</dc:creator>
  <dc:description/>
  <dc:language>en-US</dc:language>
  <cp:lastModifiedBy>DATA</cp:lastModifiedBy>
  <dcterms:modified xsi:type="dcterms:W3CDTF">2003-10-10T07:36:00Z</dcterms:modified>
  <cp:revision>44</cp:revision>
  <dc:subject/>
  <dc:title>DATA CONCEPT S.A. La passion de la qualité Le respect des délais</dc:title>
</cp:coreProperties>
</file>