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1DD0-1552-4077-971C-4E0F1C34B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275A-BC10-40B0-ADA8-6C8690CF0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FFE4-61B0-49BE-B220-57DC8D342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1489-A71A-406A-A53B-258D0EDF5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E477-0920-42E5-B971-8DFA31105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E427-C7B0-42D2-9103-A314058C1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6FF5-509B-4B44-A197-3986FC7171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F198-A7D8-4E77-8AEE-D956DC1A3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B180-1ED3-49A7-AB52-5075222E9E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4099-0537-45F8-BF35-230E9F48B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A540-3FE7-4659-871A-A723BB891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CAF2-795A-417C-AD9D-F2E08C974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7A6A-722C-440D-BC65-876E5C9CF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1EF7-FABE-49F7-9236-82EC1E242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5022-6968-4A0A-AE8F-984427B416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A1B4-F568-46AC-BC2E-44E77BFC8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0B30-BDCC-4B80-9701-EFE24618A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F8E4-730D-451E-B541-F81AE2481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D4D6-EF3D-499B-BC7A-6DC25ED5C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B1A6-27ED-4D8A-A4D4-AED5EFD20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581D-2235-4509-9A6C-23D6C28DB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F8C6-001E-4225-9481-ADB989351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4359-A7DA-43BF-926A-9644113C4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6A3C-BDC8-43F8-8736-129865AAF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3DB-559D-46E5-BA0B-B1D60DB3A4B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1722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DATA CONCEPT - 28, avenue du Maréchal Foch 92260 FONTENAY AUX ROSES - 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Tél. : (33) 1 46 61 29 29 - Fax : (33) 1 46 61 29 3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pascal.billot@dataconcept.f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848720" cy="0"/>
          </a:xfrm>
          <a:prstGeom prst="line">
            <a:avLst/>
          </a:prstGeom>
          <a:ln cap="sq"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683-8F2D-475F-BE20-C99095BBD13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1722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DATA CONCEPT - 28, avenue du Maréchal Foch 92260 FONTENAY AUX ROSES - 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Tél. : (33) 1 46 61 29 29 - Fax : (33) 1 46 61 29 3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pascal.billot@dataconcept.f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172200"/>
            <a:ext cx="7848720" cy="0"/>
          </a:xfrm>
          <a:prstGeom prst="line">
            <a:avLst/>
          </a:prstGeom>
          <a:ln cap="sq"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r" pos="759312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99"/>
                </a:solidFill>
                <a:latin typeface="Berlin Sans FB"/>
              </a:rPr>
              <a:t>DATA CONCEPT S.A.</a:t>
            </a:r>
            <a:br>
              <a:rPr sz="6000"/>
            </a:br>
            <a:r>
              <a:rPr b="0" lang="fr-FR" sz="2400" spc="-1" strike="noStrike">
                <a:solidFill>
                  <a:srgbClr val="ffff99"/>
                </a:solidFill>
                <a:latin typeface="Berlin Sans FB"/>
              </a:rPr>
              <a:t>LA PASSION DE LA QUALITE</a:t>
            </a:r>
            <a:br>
              <a:rPr sz="2400"/>
            </a:br>
            <a:r>
              <a:rPr b="0" lang="fr-FR" sz="2400" spc="-1" strike="noStrike">
                <a:solidFill>
                  <a:srgbClr val="ffff99"/>
                </a:solidFill>
                <a:latin typeface="Berlin Sans FB"/>
              </a:rPr>
              <a:t>www.dataconcept.fr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789000"/>
            <a:ext cx="815328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Audit et conseil en organ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Développement de logiciels spécif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7ED4-ECEC-4773-98CD-0549D1572C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47960" y="99036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99"/>
                </a:solidFill>
                <a:latin typeface="Berlin Sans FB"/>
              </a:rPr>
              <a:t>REFERENCES BOIS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Notre société est spécialisée dans l’informatisation des sociétés en négoce de bois depuis plus d’une dizaine d’années. Nos principales implantations dans le monde :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REFERENC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51920" y="9907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99"/>
                </a:solidFill>
                <a:latin typeface="Berlin Sans FB"/>
              </a:rPr>
              <a:t>QUELQUES REFERENCES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gencement : PARTEN’R DISTRIBUTION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rtonnerie industrielle : GROUPE O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ntre d’étude atomique : C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pagnies maritimes : SOFLUM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nfection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OP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eur aéronautique : DASSAULT AV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dustrie : SOYE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sation de salon : SALON DU JOU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Verrerie industrielle 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O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EC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D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171144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cap="sq" w="25560">
            <a:solidFill>
              <a:srgbClr val="ffff99"/>
            </a:solidFill>
            <a:miter/>
            <a:headEnd len="sm" type="diamond" w="lg"/>
            <a:tailEnd len="sm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3200400"/>
            <a:ext cx="2743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TIB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IB CON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IB GAB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.B.G. GAB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FO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R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ROUPE ROUG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200400"/>
            <a:ext cx="2743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.F.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TERWOOD 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H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IVOBO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ROPICA-BO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T INTERNAT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71A0-2CA9-438C-95AD-4AC33CEAAC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MARC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057400"/>
            <a:ext cx="8305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44720"/>
                <a:tab algn="l" pos="400536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 %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ER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giciels et pres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44720"/>
                <a:tab algn="l" pos="400536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44720"/>
                <a:tab algn="l" pos="4005360"/>
                <a:tab algn="l" pos="456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0 %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giciels, prestations e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tér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4688-144D-4CF5-BA94-78D78CC3C970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PRESENTATION DE LA SOCIE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 été créée en  1987 par Pascal BILLOT, à partir de convictions et de valeurs que nous partageons toujours aujourd’hui à savoir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a passion de la qua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e goût d’entreprendr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a double compéte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Des compétences fonctionnelles bâties sur un socle de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compétences techniques ; se caractérisant par une connaissance approfondie de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l’activité, des besoins et des contraintes de nos clien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 La complicité intern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Elle fait de 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une société jeune et dynamique où  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nous partageons au delà du quotidien la même motivation du « projet d’entreprise »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-La volonté d’anticipation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Elle se traduit en termes de veille technologique permanente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mais aussi d’intuition qui nous ont permis d’être prêts à répondre aux dernières mutations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informatiques et ce depuis plus de 10 a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7A5E-D7CE-418F-9B2A-CBD23194ED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se caractérise par un grand nombre d’activité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sommes aptes à mener votr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jet informatique de A jusqu’à Z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d’offrir 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treprises des prestations de qualité dans les domaines suivant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Berlin Sans FB"/>
              </a:rPr>
              <a:t>AUDITS ET CONSEILS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hoisir un système informatique n’est pas un choix anodin puisqu’il va conditionner la bonne marche de l’entreprise et permettre, s’il est bien conçu, de réaliser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’énormes gains de productivité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proposons de mettre à votre disposition notre expérience pour mieux appréhender votre système d’information, tant au niveau matériel que logiciel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Analyse du système existant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Études des besoins de l’entreprise et des utilisateurs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rise en compte des contraintes (organisation de l’espace, budget, utilisateurs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D317-78F3-44F8-AA8E-2DD39A6C26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DEVELOPPEMENT</a:t>
            </a:r>
            <a:br>
              <a:rPr sz="1600"/>
            </a:br>
            <a:br>
              <a:rPr sz="500"/>
            </a:b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 adopté depuis plus de 10 ans un certain nombre de principes qui déterminent des conditions de travail optimales pour un résultat répondant aux besoins de nos clients.</a:t>
            </a:r>
            <a:br>
              <a:rPr sz="1600"/>
            </a:br>
            <a:br>
              <a:rPr sz="5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Établissement de cahiers des charges (fonctionnalité, structure des informations).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ropositions de solutions sur le plan logiciel et sur le plan matériel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Développement d’application(s) spécifique(s).</a:t>
            </a:r>
            <a:br>
              <a:rPr sz="1600"/>
            </a:br>
            <a:br>
              <a:rPr sz="5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insi, à chaque application est affecté un chef de projet qui est :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Responsable des relations avec le client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Responsable du bon avancement du projet.</a:t>
            </a:r>
            <a:br>
              <a:rPr sz="1600"/>
            </a:br>
            <a:br>
              <a:rPr sz="5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ci inclut 5 phases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Analys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rogrammation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Tests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Formation et assistance au démarrag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Mainten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20E0-3172-4CB8-9627-EF1DD6C65E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VENTES DE SOLUTIONS CLES EN MAINS</a:t>
            </a:r>
            <a:br>
              <a:rPr sz="2400"/>
            </a:br>
            <a:br>
              <a:rPr sz="9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vous proposons à la vente l’ensemble des matériels mini et micro-informatique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C de marques avec garantie de 1 à 5 ans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Périphériques divers (imprimantes, scanners, écran etc...)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Composants réseaux (cartes réseaux, hub, switch, modems, routeurs, etc...)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Tous logiciels et systèmes d’exploitation,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assurons l’installation, la configuration, et le paramétrage de votre matérie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E78D-2234-4804-9286-9769214A74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125"/>
              </a:spcBef>
              <a:buClr>
                <a:srgbClr val="ffff99"/>
              </a:buClr>
              <a:buSzPct val="75000"/>
              <a:buFont typeface="Berlin Sans FB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ASSISTANCE ET MAINTENANCE</a:t>
            </a:r>
            <a:br>
              <a:rPr sz="500"/>
            </a:br>
            <a:r>
              <a:rPr b="1" lang="fr-FR" sz="500" spc="-1" strike="noStrike">
                <a:solidFill>
                  <a:srgbClr val="ffff99"/>
                </a:solidFill>
                <a:latin typeface="Berlin Sans FB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met à votre disposition une équipe de techniciens qui intervient pour tous dépannages, configurations de PC et d’imprimantes, installations de systèmes d’exploitation, réseaux, logiciels de sécurité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pouvons :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Vous assister par téléphone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Intervenir directement sur votre ordinateur par  la télé-maintenance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Intervenir rapidement sur site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our que vous ne perdiez plus un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emps trop précieux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vous propose un service d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aintena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d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estion de votre parc informatiqu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A4E0-0ABE-429F-8FD4-1FD078CC6E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Berlin Sans FB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Berlin Sans FB"/>
              </a:rPr>
              <a:t>FORMATION PROFESSIONNELLE</a:t>
            </a:r>
            <a:br>
              <a:rPr sz="2000"/>
            </a:br>
            <a:br>
              <a:rPr sz="12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’informatique évolue vit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ace à l’explosion des logiciels, </a:t>
            </a: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met à votre disposition un potentiel de formateurs intra et extra-entreprise,  pouvant répondre le plus rapidement possible à vos besoins 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 qui vous permettra de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prendre rapidemen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les nouvelles fonctionnalités, d’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ller à l’essentiel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de ne pas se perdre sous les manuels d’utilisation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s méthodes pédagogiques utilisées s'appuient sur des exercices concrets et progressifs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s formations s'accompagnent, pour chaque stagiaire, de supports de cours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ur chaque formation, qu'elle soit spécifique ou bien standard, un responsable de formation est attaché à suivre l'élaboration du projet, sa réalisation et surtout, le suivi dans l'entreprise de la mise en pratique des acquis de chaque stagiaire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ACTIVIT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77FD-06FC-47C7-AA77-8E58CFA97C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DATA CONCEPT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a acquis une expérience approfondie dans la création de logiciels et de progiciel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avons en effet développé de nombreuses applications dont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NEWGEST</a:t>
            </a:r>
            <a:r>
              <a:rPr b="1" lang="fr-F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 Logiciel intégré permettant la gestion :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des Achats, des Ventes, de la Facturation, des Stocks, des Statistiques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MICROBOI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Logiciel intégré de gestion forestière pour :  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Aménagement, Abattage, Grumes, Débités, Scierie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GESTBOIS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: Logiciel intégré pour le négoce international permettant la gestion des :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trats d’achats, Contrats de ventes, Facturation, Statistiques, Règ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LOGICIELS DATA CONCEP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2ABE-69B7-4504-ABB8-CF407791D8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mobilité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et la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sponibilité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sont deux de nos atouts.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s sommes déjà implantés : 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En </a:t>
            </a: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AFRIQU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ameroun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entrafriqu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go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ôte d’Ivoir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abon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Mar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En </a:t>
            </a: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EUROP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Allemagn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rance</a:t>
            </a:r>
            <a:br>
              <a:rPr sz="1600"/>
            </a:b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uis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- En </a:t>
            </a: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ASI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2892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nterlocuteurs privilégiés de nos clients pour leur système d’information, tant au niveau matériel que logiciel, nous nous adaptons aux évolutions technologiques afin de mieux les satisfaire et les aider à améliorer leur efficience économiqu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982880"/>
            <a:ext cx="3809880" cy="3771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99"/>
                </a:solidFill>
                <a:latin typeface="Berlin Sans FB"/>
              </a:rPr>
              <a:t>IMPLANTATIONS CLIENTE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4EE4-B874-4514-94E2-B9EB9E61F4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5:12:17Z</dcterms:created>
  <dc:creator>Marie-Lise</dc:creator>
  <dc:description/>
  <dc:language>en-US</dc:language>
  <cp:lastModifiedBy>DATA</cp:lastModifiedBy>
  <dcterms:modified xsi:type="dcterms:W3CDTF">2003-10-10T07:36:00Z</dcterms:modified>
  <cp:revision>44</cp:revision>
  <dc:subject/>
  <dc:title>DATA CONCEPT S.A. La passion de la qualité Le respect des délais</dc:title>
</cp:coreProperties>
</file>